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7E4-3D0C-4368-B8F0-CD038E25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108-62A1-484E-A457-696B1287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37D-4DC5-4054-8028-C5A344A0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70B-DDB0-4049-ACBA-30DFEF48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61D-5A84-48A1-99EB-9D97782A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2C71-3885-415F-8802-98B92F51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A427-4ADF-41F7-9C17-1E410CC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333F-454F-474C-9302-55A3777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18C0-6047-4C1C-8FFC-D1935E14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660A-BDEE-408A-AF8E-76F783D0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6F0F-6727-4B31-98E3-95860D35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D5E-4755-4E54-82E6-2E730C75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B9DB-D5A4-4D7F-8BDF-19D2A349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B58-A0DC-40AA-B0D5-A94D8F8F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9F3A-9441-4D9E-8D13-5DEC923C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52E3-99F0-4ABA-AD40-612C7D86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3051-3D04-41D4-8774-D98D8337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8977-32E2-4C35-9BB8-45D6247D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7DBF-B147-4EC7-B04F-D9BE6D30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716F-433C-4C48-B599-BEEAF962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DAF2-4A92-47F6-A096-3160076A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22F3-DDD0-4D50-806C-E2C1C74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454-A9C9-4D98-995E-2181FAA6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6EAA-D8DB-448B-BC11-E375F00E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3CE6-8162-403B-BA17-4D24966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89D4B-CB23-465E-9CB0-8ED91AC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7D2F-DB8B-4221-ABB7-6BA6980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146D-91B1-4ABD-9D49-644A03B2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879C-B985-411B-B1CD-0260B361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EF08-36B8-4A2D-BC69-92FDEDDD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67DF4-30B7-44AF-9314-CCD15396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C332-4406-4AB0-8614-433DC03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F147-F2D6-45EE-B56E-79D03072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DCD-0161-4753-B5AD-7062F56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E365-C0B9-4601-81E8-60140267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D8DBB-F12D-4AE9-B6D6-F793350F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DC57-BB0C-4A9C-881A-CDB44359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AA0D6-3931-4541-BA20-78F7EFEC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0C33-CE61-4BB3-A4EE-CD220E95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5B01F-9387-4644-A5F0-1F6C6BFF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4155-E702-4742-AC40-CCB64BC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B432-1A45-42A1-9E3E-03499D49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9937-4E52-4FED-8A55-322492F8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CB22-5FDB-4402-AE26-CCF3A732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69F-CF7D-4EE1-AA5D-DAF35AFE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36B39-811E-4C2C-81BE-66A26D7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F9F33-06A6-4B42-A36A-C4A05A73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29BBE-BA91-4BB3-8F4A-A7E4C341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BEFD-7F7A-484A-8A29-2135EC00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D0A76-592A-4B02-983B-79BF626E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6D31C-ED93-4CC3-AAA2-36F682B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02CE-4148-4932-A7E4-5273321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EF385-F3F5-4F61-AA1F-B7A50D3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FBD1-D087-44B1-8B98-85938E48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7181C-50B5-41C6-B723-F1093863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172-316F-4F76-BC0F-11673D2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EAF3-6224-4419-93E0-67D76605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DC6FA-9EBA-4D75-9652-7BDB3B85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7F186-42E3-487F-AF6D-4CEF2C8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405C-E09E-44E4-B6B0-EB588F3D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E135E-CB68-4491-B807-D68A5E1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9E22-77AF-4E86-9784-067E8A0E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3353-6C60-483F-BE80-8ED147DE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0B11-D6EC-4558-9162-CE64C7F2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0C890-3E3F-45CE-9534-25E1B73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1E1FD-59F3-4CAD-9EBE-BA63D97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71B-9949-4385-8970-EEA5C99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CA3C-761F-4D0D-9D55-EDE1866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536AD-7452-4ABD-A557-DB34EDC9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B3175-574E-4354-8813-908FB476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AEE6E-B4CB-4002-8E6D-EA672691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8747-8105-4E5E-9738-4A406F3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0A40-F35D-4B58-BC08-206001D3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0F2F4-828A-47E8-AF1F-84FF337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CB46F-D112-48E5-A3D7-3FAE277C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E7AC-255B-442C-9AAB-5CD558B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ADA2-FE90-4F6C-8500-49D9CF13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F7D-2073-4930-B5D8-A022208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9BFD-1842-4BF9-8012-D0C700D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A1209-3D69-4209-81D4-1D7F15F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05DE2-1B0E-4B35-9FE2-1F6A904B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6282-17D5-49C9-A06D-1F502792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DA7A-16CA-4C35-A4E0-D7236D4E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49D-0677-49FD-B10F-9DB89C1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9780-6319-4DA8-B121-38D650A1A8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DA0-6667-44F2-8979-59570E9D055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9F0E-D659-43DE-813D-5865D0AB109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49CA-A438-4342-BD24-E97DF56FD7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E14-A20C-46B4-BEA9-2EFB7F4E96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5BEE-C6EC-4B31-8D0A-A9C7B9FE0FB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C51D-ADF9-4616-ADCD-64F2EADD3F3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History Influences Tex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merican Romantic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manticism vs. Rationalism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uition versus calc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otion versus rea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ontaneity versus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vidualism versus social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derness versus indust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jective experience versus objective f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aphysical musing versus scientific re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Content Placeholder 4" descr="(rom5) durand.jpg"/>
          <p:cNvPicPr/>
          <p:nvPr/>
        </p:nvPicPr>
        <p:blipFill>
          <a:blip r:embed="rId1"/>
          <a:stretch/>
        </p:blipFill>
        <p:spPr>
          <a:xfrm>
            <a:off x="5676840" y="2060640"/>
            <a:ext cx="2857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2314"/>
                </a:solidFill>
                <a:latin typeface="Gill Sans MT"/>
              </a:rPr>
              <a:t>THE DARK ROMANTICS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ike other Romantics, valued intuition over logic and reas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ike other Romantics, saw signs and symbols in all even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like other Romantics, did not believe that nature is good or harmles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plored the conflict between good and evil, the psychological effects of guilt and sin, and even madnes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w the horror of evil behind the thin façade of respectable socie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Content Placeholder 4" descr="(rom8) Fuseli-Nightmare.jpg"/>
          <p:cNvPicPr/>
          <p:nvPr/>
        </p:nvPicPr>
        <p:blipFill>
          <a:blip r:embed="rId1"/>
          <a:stretch/>
        </p:blipFill>
        <p:spPr>
          <a:xfrm>
            <a:off x="2133720" y="2819520"/>
            <a:ext cx="47624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med Writing: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re You Rationalist or Romantic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, personally, relate more closely to the values of the Rationalists or of the Romantics?  Give specific examples of political / philosophical assumptions that you share with the group you identify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C:\Users\Stephen\AppData\Local\Microsoft\Windows\Temporary Internet Files\Content.IE5\XKFOFSSB\MCBD19612_0000[1].wmf"/>
          <p:cNvPicPr/>
          <p:nvPr/>
        </p:nvPicPr>
        <p:blipFill>
          <a:blip r:embed="rId1"/>
          <a:stretch/>
        </p:blipFill>
        <p:spPr>
          <a:xfrm>
            <a:off x="5410080" y="1670040"/>
            <a:ext cx="3492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merican Romantic Period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1800 – 1860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6668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times called the American Renaissa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ever, Renaissance means “rebirth” and the American Renaissance was not the rebirth of an old style; it was a completely new, uniquely American sty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uthors were mature, innovative, and optimistic about America and individualis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Content Placeholder 6" descr="Bierstadt_LandersPeak_1863 (rom1).jpg"/>
          <p:cNvPicPr/>
          <p:nvPr/>
        </p:nvPicPr>
        <p:blipFill>
          <a:blip r:embed="rId1"/>
          <a:stretch/>
        </p:blipFill>
        <p:spPr>
          <a:xfrm>
            <a:off x="2438280" y="4100400"/>
            <a:ext cx="41911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Values of American Romanticis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erished imagination, individual feelings, and wild natur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d a realistic view of the dark side of the human spir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flected strong national pri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lieved that the individual, no matter what background or class, was to be respected for his/her personal, and unlimited, accomplishm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Content Placeholder 4" descr="(rom2) Asher_Durand_Kindred_Spirits.jpg"/>
          <p:cNvPicPr/>
          <p:nvPr/>
        </p:nvPicPr>
        <p:blipFill>
          <a:blip r:embed="rId1"/>
          <a:stretch/>
        </p:blipFill>
        <p:spPr>
          <a:xfrm>
            <a:off x="5533920" y="1523880"/>
            <a:ext cx="3143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94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merican Romanticism was a response to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04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grime and noise of the industrial 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direct contact of the population with the American wilder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wing conflict among the people regarding slave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men’s push toward equality with 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 audience of readers hungry for literature that was purely Americ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Content Placeholder 4" descr="(rom4) Cole_course_of_empire_pastoral.jpg"/>
          <p:cNvPicPr/>
          <p:nvPr/>
        </p:nvPicPr>
        <p:blipFill>
          <a:blip r:embed="rId1"/>
          <a:stretch/>
        </p:blipFill>
        <p:spPr>
          <a:xfrm>
            <a:off x="2438280" y="4191120"/>
            <a:ext cx="40388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The Progression of American Thought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 fontScale="99000"/>
          </a:bodyPr>
          <a:p>
            <a:pPr marL="626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MANTICS WERE DISTINCT FROM PREVIOUS AMERICANS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YET, INFLUENCED BY THESE SAME GROUPS OF AMERICAN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aw themselves as revolting against the “Age of Reason” and its valu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ism rejected fiery Puritan rhetoric about religion, guilt, and salva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lIns="90000" rIns="90000" tIns="46800" bIns="46800" anchor="t">
            <a:normAutofit fontScale="97000"/>
          </a:bodyPr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were moved by powerful Rationalist rhetoric about the rights of the individual and freedo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earched for truth and beauty in ordinary objects or scenes, like the Purita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Thomas Cole, 1840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Content Placeholder 3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1549440" y="1447920"/>
            <a:ext cx="727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Thomas Cole, 1840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(detail)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Picture Placeholder 12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835200" y="1238400"/>
            <a:ext cx="4431960" cy="33271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0000"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Gill Sans MT"/>
              </a:rPr>
              <a:t>How does this painting depict childhood.  Consider both what it shows (denotation) and what it implies (connotation).  You have five minutes to write.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haracteristics of Romantic tex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ssionate and emotion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ntimen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metimes deal with the supernat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aracters are often larger-than-life and aristocratic—sometimes stock characters are us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stinctions between upper and lower class charac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oquial language and setting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Content Placeholder 10" descr="(rom6) Cole.jpg"/>
          <p:cNvPicPr/>
          <p:nvPr/>
        </p:nvPicPr>
        <p:blipFill>
          <a:blip r:embed="rId1"/>
          <a:stretch/>
        </p:blipFill>
        <p:spPr>
          <a:xfrm>
            <a:off x="5346720" y="1523880"/>
            <a:ext cx="3517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ore characteristics of Romantic tex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Content Placeholder 8" descr="(rom8) Simmonds_Ophelia.jpg"/>
          <p:cNvPicPr/>
          <p:nvPr/>
        </p:nvPicPr>
        <p:blipFill>
          <a:blip r:embed="rId1"/>
          <a:stretch/>
        </p:blipFill>
        <p:spPr>
          <a:xfrm>
            <a:off x="1219320" y="144792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ten written in third-person omniscient with the author/narrator interrupting to moralize or guide the read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nse, with strong rising action leading to a dramatic clim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mbolic, allegor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w life as it might have been or might be rather than average life as it was during the author’s life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7:14:46Z</dcterms:created>
  <dc:creator>Carrie Danielson</dc:creator>
  <dc:description/>
  <dc:language>en-US</dc:language>
  <cp:lastModifiedBy>Stephen Joseph Fazio</cp:lastModifiedBy>
  <dcterms:modified xsi:type="dcterms:W3CDTF">2008-10-28T03:46:53Z</dcterms:modified>
  <cp:revision>23</cp:revision>
  <dc:subject/>
  <dc:title>Historical Influence on Te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